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C37-6FB5-4A88-9D5E-938230B7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6CED-2400-4467-B7AA-04F195FA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DA7-E23A-42BF-AB4C-431E7F3D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8B3-B4F3-4D33-BA81-390CEBBE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1D7B-FD5B-4E22-BDE4-31ACA992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5B5-611B-42BD-9172-06879F86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C24-A567-4345-A6CF-98479639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D0CA-5E4C-4D5E-8E2E-5CC5E00D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41B-3E24-4962-BD65-C368FCA8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16DA-71AF-4664-8E55-60DE8B19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346-84F0-40D5-9CE7-7F6FCCC2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2FD8-A086-4CD0-A6FC-90617CD1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18D1-7BAD-49BD-98E0-F8AAB2E010F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lexey\Мои документы\Мои рисунки\Безымянный22255.JPG"/>
          <p:cNvPicPr/>
          <p:nvPr/>
        </p:nvPicPr>
        <p:blipFill>
          <a:blip r:embed="rId1"/>
          <a:stretch/>
        </p:blipFill>
        <p:spPr>
          <a:xfrm>
            <a:off x="12600" y="-38160"/>
            <a:ext cx="9182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79640" y="188640"/>
            <a:ext cx="5221080" cy="29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дицинский контроль за физическим развитием, закаливанием детей в оздоровительных лагерях. Требования к организации туристических походов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уприянова Н. 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рач спортивной медицин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УЗ « Краевой врачебно-физкультурный диспансер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Alexey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65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здухом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круглосуточно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бывания на воздух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02920" y="1628280"/>
            <a:ext cx="67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аливание в виде воздушных ванн проводи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ени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˚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воздуха не ниже + 19˚С         (для младших групп дете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не ниже +16 ˚С (для старших групп дете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C:\Users\демон\Desktop\6719396880614b805178b28af79b1d59f429275170f_b.jpg"/>
          <p:cNvPicPr/>
          <p:nvPr/>
        </p:nvPicPr>
        <p:blipFill>
          <a:blip r:embed="rId2"/>
          <a:stretch/>
        </p:blipFill>
        <p:spPr>
          <a:xfrm>
            <a:off x="2933640" y="4535640"/>
            <a:ext cx="4446720" cy="2133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Alexey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лнц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58920" y="1052280"/>
            <a:ext cx="712800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чшее время: 10:30 утра до 13:00 дня ил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16:00 до 18: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инают 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˚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не ниже +18 ˚С в тени, начинают  с 4-5 минутами пребывания на солнце один раз в день с покрытой головой и увеличивают до 60мин. Ложиться – ногам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к солнцу, голову закрывать панамой. Менять позу каждые 2-4 мину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Users\демон\Desktop\images.jpg"/>
          <p:cNvPicPr/>
          <p:nvPr/>
        </p:nvPicPr>
        <p:blipFill>
          <a:blip r:embed="rId2"/>
          <a:stretch/>
        </p:blipFill>
        <p:spPr>
          <a:xfrm>
            <a:off x="1187280" y="4869000"/>
            <a:ext cx="583416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Alexey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лнечные ванны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ЕЛЬЗЯ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меня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71280" y="2133720"/>
            <a:ext cx="7499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тощ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утомительных физических упраж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недомогании или плохом самочувств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ослабленных детей длительность солнечных ванн ограничиваю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Alexey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каливание вод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02920" y="2781360"/>
            <a:ext cx="60483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тир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ли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п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C:\Users\демон\Desktop\1016637454.jpg"/>
          <p:cNvPicPr/>
          <p:nvPr/>
        </p:nvPicPr>
        <p:blipFill>
          <a:blip r:embed="rId2"/>
          <a:stretch/>
        </p:blipFill>
        <p:spPr>
          <a:xfrm>
            <a:off x="3851280" y="2133720"/>
            <a:ext cx="4249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Alexey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65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тир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476000" y="1600200"/>
            <a:ext cx="64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омендуется проводить после УГ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младшей групп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 ниже +28 С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старшей группы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не иже+25 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Alexey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уш и обли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15640" y="1628280"/>
            <a:ext cx="69850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ш начинается с 10-15 сек. И увеличивается до 30 с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ливания водой начинают с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, постепенно снижают до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20 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пание проводят 1 раз в день в часы между завтраком и обе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Alexey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-22320" y="0"/>
            <a:ext cx="9180720" cy="68896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пание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пание проводиться 1 раз в день в часы между завтраком и обедо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Начинают купание с 2-5 минут и ежедневно прибавляют по 2 мин доходя до 45 мин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ри нахождении детей в воде необходим непрерывный контроль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собое внимание необходимо уделить обучению детей плаванию и соблюдать строгую дисциплин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Documents and Settings\Alexey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уп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116000" y="2338560"/>
          <a:ext cx="6696000" cy="3528720"/>
        </p:xfrm>
        <a:graphic>
          <a:graphicData uri="http://schemas.openxmlformats.org/drawingml/2006/table">
            <a:tbl>
              <a:tblPr/>
              <a:tblGrid>
                <a:gridCol w="3348000"/>
                <a:gridCol w="334800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ература воды, С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мя купания,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– 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– 1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ше 2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Alexey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656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езопасность в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уристическом поход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72640" y="1196640"/>
            <a:ext cx="7417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ректор лагеря обязан издать приказ о назначении членов пед.коллектива руководителем и заместителем (помощником) руководителя турпох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сти  инструктаж по безопасности с оформлением в журна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еть и утвердить план, маршрут пох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C:\Users\демон\Desktop\pohods.jpeg"/>
          <p:cNvPicPr/>
          <p:nvPr/>
        </p:nvPicPr>
        <p:blipFill>
          <a:blip r:embed="rId2"/>
          <a:stretch/>
        </p:blipFill>
        <p:spPr>
          <a:xfrm>
            <a:off x="1547640" y="4797360"/>
            <a:ext cx="468000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Alexey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ребования безопасности при движении по маршру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00000" y="1844280"/>
            <a:ext cx="712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держиваться утвержденного плана и маршру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шоссе двигаться по обочине навстречу идущему транспор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рытые пространства, перелески и другие легко преодолимые участки проходить по азиму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пересеченной местности, в лесу идти по троп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возможности избегать преодоления небезопасных препятст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Alexey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-134280"/>
            <a:ext cx="670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47800" y="1196640"/>
            <a:ext cx="75722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бота с детьми в оздоровительном лагере начинается с предъявления документов ребенка и справки о состоянии здоровья которая непосредственно выдаться врачам педиатром по месту проживания ребен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Alexey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ребования безопасности при движении по маршру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360" y="1981080"/>
            <a:ext cx="763272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ниматься по крутому (затяжному) склону лучше не прямо, а зигзаг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грозы на открытом месте нельзя прятаться под высокие деревья (особенно опасны отдельно стоящие дуб, тополь, ель, сосна), нельзя бежать. Лучше спрятаться в ложбинке или лечь на землю и укрыться плащом (курткой). Оставить металлические предметы на расстоянии не ближе 100 мет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движения не рекомендуется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ить в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nts and Settings\Alexey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4784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походов необходимо иметь аптечку в состав которой будет входи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нты стери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йкопластыр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Й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манганат ка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атырный спи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жн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ства при заболеваниях Ж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ивовоспалительные сре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Documents and Settings\Alexey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орость и порядо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передви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00000" y="2096640"/>
            <a:ext cx="7056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ижение в колонне по одно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головного и замыкающего участ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станция между туристами не более 2 мет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рость движения группы 3,5 – 4,5 км/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жим движения: 45-50 мин хода, 10-15 мин отдых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з 2-3 перехода – привал, об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89000" y="485640"/>
          <a:ext cx="8785080" cy="6193080"/>
        </p:xfrm>
        <a:graphic>
          <a:graphicData uri="http://schemas.openxmlformats.org/drawingml/2006/table">
            <a:tbl>
              <a:tblPr/>
              <a:tblGrid>
                <a:gridCol w="1874880"/>
                <a:gridCol w="595080"/>
                <a:gridCol w="522360"/>
                <a:gridCol w="662040"/>
                <a:gridCol w="530280"/>
                <a:gridCol w="522360"/>
                <a:gridCol w="534960"/>
                <a:gridCol w="583920"/>
                <a:gridCol w="520920"/>
                <a:gridCol w="595080"/>
                <a:gridCol w="447840"/>
                <a:gridCol w="522360"/>
                <a:gridCol w="873000"/>
              </a:tblGrid>
              <a:tr h="366120">
                <a:tc rowSpan="4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 нагруз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,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– 1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– 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– 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– 1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ней пох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е расстояние похода,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-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движения, км/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непрерывного движения,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тельность коротких привалов,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 груза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ьч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Line 233"/>
          <p:cNvSpPr/>
          <p:nvPr/>
        </p:nvSpPr>
        <p:spPr>
          <a:xfrm>
            <a:off x="3851280" y="1231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34"/>
          <p:cNvSpPr/>
          <p:nvPr/>
        </p:nvSpPr>
        <p:spPr>
          <a:xfrm>
            <a:off x="3851280" y="2276640"/>
            <a:ext cx="0" cy="39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35"/>
          <p:cNvSpPr/>
          <p:nvPr/>
        </p:nvSpPr>
        <p:spPr>
          <a:xfrm>
            <a:off x="5508720" y="1052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36"/>
          <p:cNvSpPr/>
          <p:nvPr/>
        </p:nvSpPr>
        <p:spPr>
          <a:xfrm>
            <a:off x="5508720" y="2276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39"/>
          <p:cNvSpPr/>
          <p:nvPr/>
        </p:nvSpPr>
        <p:spPr>
          <a:xfrm>
            <a:off x="7164360" y="1052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40"/>
          <p:cNvSpPr/>
          <p:nvPr/>
        </p:nvSpPr>
        <p:spPr>
          <a:xfrm>
            <a:off x="7164360" y="2276640"/>
            <a:ext cx="0" cy="396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41"/>
          <p:cNvSpPr/>
          <p:nvPr/>
        </p:nvSpPr>
        <p:spPr>
          <a:xfrm>
            <a:off x="7164360" y="105264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2"/>
          <p:cNvSpPr/>
          <p:nvPr/>
        </p:nvSpPr>
        <p:spPr>
          <a:xfrm>
            <a:off x="7161120" y="1197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43"/>
          <p:cNvSpPr/>
          <p:nvPr/>
        </p:nvSpPr>
        <p:spPr>
          <a:xfrm>
            <a:off x="7164360" y="2276640"/>
            <a:ext cx="0" cy="39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4"/>
          <p:cNvSpPr/>
          <p:nvPr/>
        </p:nvSpPr>
        <p:spPr>
          <a:xfrm>
            <a:off x="2050920" y="1039680"/>
            <a:ext cx="0" cy="576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39640" y="65160"/>
            <a:ext cx="8147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рмирование физических нагрузок  в пох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Alexey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17640"/>
            <a:ext cx="764388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НОРМАТИВНО-ПРАВОВАЯ БАЗА ПО ОРГАНИЗАЦИИ ДЕТСКОГО ОТД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691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йствующее законодательство обязывает летнее оздоровительное учреждение соблюдать требо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деральный закон от 28 декабря 2016 г. N 465-ФЗ "О внесении изменений в отдельные законодательные акты Российской Федерации в части совершенствования государственного регулирования организации отдыха и оздоровления детей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ажданского Кодекса РФ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кона РФ от 07.02.1992 г. № 2300-1 «О защите прав потребителей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З от 24.11.1996 г. №132-ФЗ «Об основах туристской деятельности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ятельность детских лагерей должна осуществляться в соответствии с требованиям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З от 30.03.1999 г. № 52-ФЗ «О санитарно-эпидемиологическом благополучии населения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 утверждении СанПиН 2.4.4.3155-13 "Санитарно-эпидемиологические требования к устройству, содержанию и организации работы стационарных организаций отдыха и оздоровления детей" (с изменениями на 22 марта 2017 го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циональным стандартом РФ ГОСТ Р 52887-2007 "Услуги детям в учреждениях отдыха и оздоровления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 rot="10800000">
            <a:off x="1979640" y="2491200"/>
            <a:ext cx="656280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Users\демон\Desktop\slide-12.jpg"/>
          <p:cNvPicPr/>
          <p:nvPr/>
        </p:nvPicPr>
        <p:blipFill>
          <a:blip r:embed="rId1"/>
          <a:stretch/>
        </p:blipFill>
        <p:spPr>
          <a:xfrm>
            <a:off x="357120" y="500040"/>
            <a:ext cx="8280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Alexey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7280" y="457200"/>
            <a:ext cx="7139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равка о состоянии физического здоров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42560" y="2190600"/>
            <a:ext cx="7572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ппа здоров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ояния здоровья (с оценкой осанки: норма, сутулость, сколиоз; антропометрическими данными : вес, рост, динамометрия, спирометрия, окружность грудной клет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жим дня( общий, щядящи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Alexey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9640" y="549360"/>
            <a:ext cx="6491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пределение на медицинские груп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58560" y="2349360"/>
            <a:ext cx="7427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ая (здоровые дет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тельная (дети с ослабленным здоровье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ециальная (дети с выраженными отклонениями в здоровь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Alexey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456840"/>
            <a:ext cx="670716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основе летней оздоровительной работы выделяют ряд мом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332000" y="2636640"/>
            <a:ext cx="735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менение режима дня ребёнка ( с учетом  его психофизических особенностей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здоровительно-воспитательный мом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али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lexey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324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98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язанности медицинского работ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41080" y="1052640"/>
            <a:ext cx="8086680" cy="40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ить за состоянием здоровья каждого ребё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уществлять контроль за физкультурно-оздоровительной работ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людать за санитарно-гигиеническим состоянием спортивных площадок, спортивного инвентар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людать за санитарно-гигиеническим состоянием детских помещений (корпусов); столов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одить санитарно-просветительную работу по вопросам личной гигиены, физической культуры, здорового образа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ствовать в проведении соревнований и подготовке экскурсий и похо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Alexey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722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культурно-оздоровительная работа в летнем оздоровительном лаге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360" y="2636640"/>
            <a:ext cx="748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тренняя гигиеническая гимнас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аливание (воздушные и солнечные ванны, обтирание, обливание, душ, купа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учение плава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герные и отрядные прогулки, экскурсии и пох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ртивные соревнования и празд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Alexey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-19080" y="-1908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65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тренняя гигиеническая гимнасти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6560" y="62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одиться утром, сразу после сна в течении 10-15 м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одиться инструктором или преподавател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оит из 7-10 упражнений в количестве повторений по 5-10 раз каждого упрож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ена комплекса упражнений проводиться каждые 7 д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Users\демон\Desktop\2_big.jpg"/>
          <p:cNvPicPr/>
          <p:nvPr/>
        </p:nvPicPr>
        <p:blipFill>
          <a:blip r:embed="rId2"/>
          <a:stretch/>
        </p:blipFill>
        <p:spPr>
          <a:xfrm>
            <a:off x="3635280" y="4941720"/>
            <a:ext cx="396108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Alexey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кали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547640" y="1412640"/>
            <a:ext cx="71503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дух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лнц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ждение боси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C:\Users\демон\Desktop\zakalivanie5.jpg"/>
          <p:cNvPicPr/>
          <p:nvPr/>
        </p:nvPicPr>
        <p:blipFill>
          <a:blip r:embed="rId2"/>
          <a:stretch/>
        </p:blipFill>
        <p:spPr>
          <a:xfrm>
            <a:off x="1258920" y="3789360"/>
            <a:ext cx="525780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5:32:34Z</dcterms:created>
  <dc:creator>Попова</dc:creator>
  <dc:description/>
  <dc:language>en-US</dc:language>
  <cp:lastModifiedBy>User</cp:lastModifiedBy>
  <dcterms:modified xsi:type="dcterms:W3CDTF">2021-05-20T15:05:36Z</dcterms:modified>
  <cp:revision>45</cp:revision>
  <dc:subject/>
  <dc:title>Медицинский контроль за физическим развитием, закаливанием детей в оздоровительных лагерях. Требования к организации туристических поход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